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E1E-CB2F-40D0-9492-A6CF6588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99E-18FA-4DFB-8E7B-7159022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E48-FACF-4C37-8E4D-868D618A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E38-5946-4FD9-9B70-831210E2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995-9D7A-41FE-A272-F5ADF8E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FA4-CC38-478E-9E84-2296FD2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885-44AB-4FB3-A9BE-9335890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CFA-CA50-4A95-8035-A09BB53F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2C1-9CCE-426C-9B12-C6B4FF6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3E4-916F-4202-A333-DA4133C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8A0-7425-4A26-A9BA-197FA4B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63C-51EE-4D1C-AB0D-2767024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238E-97AB-4C0A-B393-43563F6C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s of Copyrigh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thical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 the three 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173320"/>
            <a:ext cx="38098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o owns the rights to the information and the conditions of its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 the people who invested the time and energy to develop and report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and abide by copyright law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 if you think you would never get ca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6:53:31Z</dcterms:created>
  <dc:creator>Connie Morrison</dc:creator>
  <dc:description/>
  <dc:language>en-US</dc:language>
  <cp:lastModifiedBy>Julie Hotchkiss</cp:lastModifiedBy>
  <dcterms:modified xsi:type="dcterms:W3CDTF">2004-09-22T20:20:17Z</dcterms:modified>
  <cp:revision>5</cp:revision>
  <dc:subject/>
  <dc:title>The Three Rs of Copyright Law</dc:title>
</cp:coreProperties>
</file>